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7E4-3CFA-4665-9848-2B592093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3E3-6C66-4A75-8E05-3D183502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716-C005-43C5-9F07-78EB0447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4D8-7EDC-4682-81E2-84ED8915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7C9-3F50-43D5-85B4-C1A5560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B65-84FB-4C14-8495-ECA69E7E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E0B-5836-4EB9-9363-7E1E89A9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7C5-0AE4-4084-B6D6-1860BE1C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91A-84B8-4588-AF97-06FC4885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588-DCE9-4423-95CC-D1E53B4E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BF9-CBC4-4FC1-B6AF-507FB12D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332-82C4-43D7-BFFA-2FD0564C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1232-E6D8-4F99-B911-7C9CE219D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295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mework Hel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38120" y="5334120"/>
            <a:ext cx="4876920" cy="1218960"/>
          </a:xfrm>
          <a:prstGeom prst="rect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by Step help for homework sheet on ratios in m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19126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  The scale of a map is 3 cm = 2 km map:  1 c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ual:  ________ 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914400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really a simple ratio problem.  The scale of the map can be stated as 3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2438280"/>
            <a:ext cx="624852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means that if you measure 3 centimetres on the map, it represents 2 kilometres in real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800" y="32004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up equivalent fractions, make sure you note which term is re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00400" y="3809880"/>
                <a:ext cx="15238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669040" y="40384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5360" y="4800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809880"/>
            <a:ext cx="344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ssing information is km, so the </a:t>
            </a: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st go as the denominator (bottom) because in the original ratio, we put kms on the bot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4280" y="5410080"/>
            <a:ext cx="274716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 as 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0560" y="5943600"/>
            <a:ext cx="2067840" cy="3682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66666 k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86728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off to hundredths.  (two decimal pl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3160" y="636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8800" y="6453360"/>
            <a:ext cx="168804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0.67 kms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480" y="559908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2057400" cy="20142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f you can’t remember how to cross multiply or round off, go to the math website and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  The scale of a map is 3 in = ____ m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:  1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ual:  4 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905120"/>
            <a:ext cx="8591400" cy="6426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still the same type of question.  In this example, you need to calculate the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819520"/>
            <a:ext cx="847404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till set up equivalent fractions, taking care to make sure that each term is where it bel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809880" y="3505320"/>
                <a:ext cx="16509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363400" y="3809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9720" y="4724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962520"/>
            <a:ext cx="1600200" cy="1191240"/>
          </a:xfrm>
          <a:prstGeom prst="rect">
            <a:avLst/>
          </a:prstGeom>
          <a:solidFill>
            <a:srgbClr val="9933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o note what each term repres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7320" y="4191120"/>
            <a:ext cx="2759400" cy="36828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 as 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3280" y="5486400"/>
            <a:ext cx="195156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2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9040" y="6248520"/>
            <a:ext cx="8049240" cy="36828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you include the right unit (in this case miles) for you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03:57Z</dcterms:created>
  <dc:creator>admin</dc:creator>
  <dc:description/>
  <dc:language>en-US</dc:language>
  <cp:lastModifiedBy>admin</cp:lastModifiedBy>
  <dcterms:modified xsi:type="dcterms:W3CDTF">2007-12-03T13:17:09Z</dcterms:modified>
  <cp:revision>7</cp:revision>
  <dc:subject/>
  <dc:title>Homework Help </dc:title>
</cp:coreProperties>
</file>